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8E1F-65D1-46E9-BDB3-772E3E77A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E8B5-075B-4332-B1DB-6CB17FC9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6F56-94D8-440E-9F7D-35CA90D12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C1B4-8292-40B2-BBB0-0C3C66A46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C90F-F78B-46FC-A7FB-5F8814B1D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2503-DC9D-49FD-8C87-4AC2BDBB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7C6F-E37E-4FAC-B674-D95654EE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3DF7-A2BF-4D4B-B09B-56808BAE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A158-6749-44F1-BC40-FE9F5907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3627-47A2-445A-9345-1D5DD618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8C53-6FEA-4AC6-BFEF-22C7C0C9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AA3E-AFB3-4159-A7E8-4513870F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A430-C912-4025-9ED9-88B101D7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4A4A-C50F-415A-B8A3-1FF8CEE6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B5BF-AF32-4298-9F5A-AFBC15A7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5EC8-AE01-487B-A973-612842D43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A3E7-0D7C-4B87-B00C-60606CDF8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5F87-24C9-4A7D-8784-138D2751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F07C-23ED-4024-931B-81399E0D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9C70-E60B-405C-96E8-79E28BCF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40C6-1396-4A01-A0A5-5165EFDA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D1C0-D668-4317-ACE6-D8EEE29F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3545-4395-44C5-9910-0D9D48D2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3073-68A5-49C5-A154-5B5F42AD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03b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fb18"/>
                    </a:gs>
                    <a:gs pos="100000">
                      <a:srgbClr val="00603b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7fb18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7fb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EED8-29FA-42ED-AB14-ED4A04064DD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603b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00603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7fb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7fb1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834B-C7DC-4171-820C-CC959304DBC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y Personal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Learning Profil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by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haran Albuo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 found out that the left hemisphere of my brain is less dominate than my right brain is more dominate than my left brai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y Intelligence type is Physical Awarness Intelligence that means that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 Am very coordinated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ble to develop and control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ble to figure out how to perform a move or task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Learns best through touching or saying it aloud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t’s important to learn how your brain works because so you can now how to lear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 can use what I have learned about the way my brain works in school. I can do this when I need help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y learning style is tactile that means that I am Kinesthetic: I learn best by doin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y learning technique is Abstract Sequential that means that I creative and imaginative, neat, and orderl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3:54:21Z</dcterms:created>
  <dc:creator>dharan albuoy</dc:creator>
  <dc:description/>
  <dc:language>en-US</dc:language>
  <cp:lastModifiedBy>dharan albuoy</cp:lastModifiedBy>
  <dcterms:modified xsi:type="dcterms:W3CDTF">2010-10-19T14:37:32Z</dcterms:modified>
  <cp:revision>3</cp:revision>
  <dc:subject/>
  <dc:title>My Personal Learning Profile by</dc:title>
</cp:coreProperties>
</file>